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D6F-D3A5-462E-84F7-F3057278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509-B199-40A0-B7C5-6D6FB5F0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1F1-BBB4-4A64-867A-B6861662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743-EA4F-4633-84C8-F38C8A97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216-345F-4C41-A660-C490C702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FE8-5566-4BB7-B8C7-79A186C9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9C5-1CC4-4451-A4B9-7D9B0B5F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EAF-19B6-471A-B719-A2D8697F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788-0FA0-45EB-BBA4-F5A5355C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19F-D31D-4D1B-BECA-4D986022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184-32D8-4137-9CA7-5C033191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910-80F6-4BE9-B008-7FE9D2A2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050B-3440-4277-83B4-786B895EA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9;&#1072;&#1084;&#1086;&#1083;&#1105;&#1090;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181480"/>
            <a:ext cx="2057400" cy="147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808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810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3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28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90512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9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34290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+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038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657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7-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52578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1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2286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7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1752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8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5 0.07014 L 0.57083 -0.28541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17 -0.29652 L 0.04583 -0.29652 E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29652 L 0.55417 -0.70763 E">
                                      <p:cBhvr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417 -0.70763 L 0.05417 -0.68541 E">
                                      <p:cBhvr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6743 L 0.2375 -0.51875 E"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583 -0.46319 L 0.5625 -0.04097 E">
                                      <p:cBhvr>
                                        <p:cTn id="2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25 -0.04097 L 0.07083 -0.48541 E">
                                      <p:cBhvr>
                                        <p:cTn id="3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-0.48541 L 0.55417 -0.50764 E">
                                      <p:cBhvr>
                                        <p:cTn id="3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583 -0.55208 L 0.2875 -0.72986 E">
                                      <p:cBhvr>
                                        <p:cTn id="3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084 -0.68542 L 0.52917 -0.29653 E">
                                      <p:cBhvr>
                                        <p:cTn id="4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7:51:38Z</dcterms:created>
  <dc:creator>Шаповаловы</dc:creator>
  <dc:description/>
  <dc:language>en-US</dc:language>
  <cp:lastModifiedBy>ник</cp:lastModifiedBy>
  <dcterms:modified xsi:type="dcterms:W3CDTF">2011-04-06T18:06:5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